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336-3534-4C71-ACCA-5C3D51A7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6D8-7664-4FB9-A7DC-1FD38D00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B1A-283A-4872-940B-93995E2C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D30-4161-40D7-838E-554A8914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B34F-DA98-4A2D-826A-3170C48F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D351-11E8-4452-9ECD-2E26213D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C4AC-0BB2-479D-B1D7-FE11F04F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8C99-BC31-4A64-96B5-D0919E5D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7E89-BA01-4762-A894-78ADE298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F761-B3B5-4BAF-935C-88B11625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9A31-C5BA-4A85-9D1F-47FDD51D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D305-2537-4376-889B-EB913633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26B8-7793-403E-90F2-5A97BE31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7A68-0213-4A9D-A975-9A1CD503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B970-490D-4CAB-BA61-B5C86045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8C91-C209-47D8-9960-1AD7A5E7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FD58-DBB9-4B4A-8633-B9A568DF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19A-D2A6-4546-8850-B8A5284A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7CE8-6174-4965-996C-49F2F2C7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DF02-2F72-412B-B2A5-43E8F580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C2C-1442-410A-9D78-C3CE376A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4182-6FC2-44E5-9EF0-69BE5353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95B-FC66-4688-BF6F-77CF1972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E8AD-DE8A-4FA3-A120-F4E0CC66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8FDD-1BA6-41FC-AB7F-6F9C786229A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F969-6B2D-4E6E-A010-CAF8832D99B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990720" y="3200400"/>
            <a:ext cx="739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l Presente Perfecto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s corri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Tú (correr) en la competencia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425240"/>
            <a:ext cx="809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emos habla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914400" y="2927520"/>
            <a:ext cx="7416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Nosotros (hablar) con los niños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Nosotros(secarse)con las toallas ya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Nos hemos secado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927520"/>
            <a:ext cx="78739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Ellos no (volver*) todavía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han vuelto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 vivi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990720" y="2927520"/>
            <a:ext cx="73404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  <a:ea typeface="Arial"/>
              </a:rPr>
              <a:t>Paco (vivir) aquí por 5 años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8960" y="2927520"/>
            <a:ext cx="71118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Tú (escribir*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)la tare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has escrito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e i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2927520"/>
            <a:ext cx="69595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Todavía  yo no (ir) al gimnasio ahor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béis pedi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42640" y="2927520"/>
            <a:ext cx="71881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osotros (pedir) una pizza con queso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 traí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Ana (traer*) una pizza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27080" y="146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emos servi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2640" y="2927520"/>
            <a:ext cx="71881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Nosotros (servir) la cen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e mira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Yo (mirar) la película 2 veces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Arial"/>
              </a:rPr>
              <a:t>han tocado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2895120"/>
            <a:ext cx="76456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Tú(tocar) la guitarra ya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 camina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8483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Mi perro(caminar)ya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n hech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Ellos (hacer) la tarea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 llamado 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 me (llamar) por teléfono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Tú nos(decir)el secreto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has dicho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e vist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Todavía yo no(ver) el video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n oí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09120" y="2927520"/>
            <a:ext cx="772164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Ellos (oír*) la canción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n canta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2927520"/>
            <a:ext cx="78739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Ellos ( cantar) Feliz Cumpleaños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n puest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2927520"/>
            <a:ext cx="69595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llos ya (poner) la mesa para la cen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me he levanta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927520"/>
            <a:ext cx="69595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yo (levantarse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  <a:ea typeface="Arial"/>
              </a:rPr>
              <a:t>temprano para ir a la escuel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s comi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42640" y="2927520"/>
            <a:ext cx="71881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Tú (comer) la sopa para almuerz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Arial"/>
              </a:rPr>
              <a:t>Se ha maquillado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440" y="2927520"/>
            <a:ext cx="76453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Mi amiga ya(maquillarse) para la escuela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 leí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8483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Juan(leer*) el libro “Night”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béis trabajado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Vosotros (trabajar) allí por 3 años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5335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003366"/>
                </a:solidFill>
                <a:latin typeface="Arial"/>
              </a:rPr>
              <a:t>ha preparado 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61760" y="2927520"/>
            <a:ext cx="7569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la ( preparar)los tacos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1:10:45Z</dcterms:created>
  <dc:creator>Tom Shirley</dc:creator>
  <dc:description/>
  <dc:language>en-US</dc:language>
  <cp:lastModifiedBy>Meg</cp:lastModifiedBy>
  <cp:lastPrinted>2009-04-22T19:24:48Z</cp:lastPrinted>
  <dcterms:modified xsi:type="dcterms:W3CDTF">2014-02-02T15:23:24Z</dcterms:modified>
  <cp:revision>25</cp:revision>
  <dc:subject/>
  <dc:title>PowerPoint Presentation</dc:title>
</cp:coreProperties>
</file>